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BEE4-3B57-42FD-BAF3-CE9CE2D5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D8AC-FE26-44BA-A6D3-25AC3F08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C39D-9FEE-48E8-AFC1-E0B09625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7F64-DF41-44E9-9319-0CB88A5E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3E96-B5F1-45B7-BE2F-1BCCEB43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2981-0C16-4B5E-9DD3-E68E71ED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692C-03A7-4E69-81F3-05FFA0BB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A780-58C2-4D60-B419-8A25D94D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9336-2D0C-4ED4-9B41-DF588964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C1F5-3756-422C-A938-00E5E7EB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5DFA-BDDA-429A-A5CB-6DE3D562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F1DB-2409-481E-BC33-21C5BF2C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07AD-29FD-4D76-B78C-947BACF3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CFD0-01C1-4F41-8106-95934963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718A-41F0-42F0-9276-E47B909B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CE8F-BF69-4F6C-A784-239A510D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7C97-3D54-4259-B863-E10366EBF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17B86-CD00-4FB3-86DF-A03482A5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400D1-C8AD-4E8A-9646-8D76B409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33580-B145-43DD-9B0E-943ACCBA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41637-98CD-44B6-8C93-2FFBAD42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DA562-D495-4200-A3EB-E6446A9A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A992-7E09-4524-956A-B29F8BA1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FADF8-F6BE-4EC2-AA17-E23C7956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F3DF5-F359-4043-8331-2B544DFE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C3B4B-B945-4F62-AF69-B04F791E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72E6D-0BEC-43B1-9212-279E2036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D44C2-9A39-4E13-B374-7DC15D56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F0CA4-F815-40C0-A39C-A727B0E1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AEC88-B16B-47DB-8CE5-595D7EA4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FEA93-A23F-4977-9A90-A50B9AB5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2A90F-00D8-48A2-B262-A1C812A7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72632-27D5-4D97-A767-5AF335C8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C7E6-4787-44C2-BC1F-A564B970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A845D-90A9-4649-8A1A-F38CB1A2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CE522-D53A-4058-8CBC-ADD9D9E1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26A12-300A-4932-9A05-0ED40024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1778B-49D5-44D1-9001-977FDAA2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44D6D-8274-48F8-B455-13D695DE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8808E-55DD-4A7B-A477-3E6B3AD0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8A239-D423-4D14-8F55-73C3DAA9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EC6DE-77D0-49CE-8F1D-EB94606F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70D84-07A7-4CE8-B244-6C00C706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FEAD8-C553-464E-826A-29FEFE49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9557-F74D-41C2-84B2-743035CE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C64E3-F61B-4615-A70A-8F796231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A8E3F-8F0E-4930-8466-E646BCBD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C4AEC-9F9C-446C-B2DC-32BB0FFB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83530-A071-472F-8E90-74043FB3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6CE40-3C91-4346-8EDC-0E755035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A03E9-BF9C-4778-9448-F1813BBD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4FD63-3524-4018-AD58-CBFF9558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CD14D-2388-4304-98FD-EA574908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EF479-DAF9-41D6-AF57-5FE4AAA6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C8053-AE8E-4B16-AF79-F5AAFFF6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1991-7A45-4AA9-BB93-3528B00B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CE068-A005-4ADF-A3C2-C62A5C7E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B3482-3EAF-4C23-9675-7859BE59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42691-BF59-447E-92AF-3D048D65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C4017-0F5C-4FC7-9AE8-00B01F21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81559-C79A-4176-B53E-3E4EEE9B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9D3B3-01D7-4704-BDB2-DA70F2B9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BDBE9-BC4B-4EE2-8904-37CB8565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A8DE9-9754-47C3-B229-910B3338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0740A-7A95-49A6-B674-5440B5BF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E07F0-F2D6-4850-B848-B60EFA4E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CDD2-6081-4294-BAFB-049F6F15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D7A64-B5C0-40D4-8D54-2B1B83EE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254FF-FAF9-4F68-B7B8-3793C4BB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E66E2-AD4A-4EFE-A207-6AD657B8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553A-C31F-4C0F-A96B-733B255F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9B2F-AEA6-41AB-BD8B-64C1CB68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4BBB-CA1E-4D31-8516-DAC3F296DF2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2FEC-2090-423C-B10A-9507DEA9E6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331B-473A-4F08-9926-AD6235B8E30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6F44-A239-4B92-A073-63CE785F1C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65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67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72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78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2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86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90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2262-0720-420F-A83C-F2198E2476B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49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50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64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68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72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76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80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E7A3-637D-4757-8CDC-E67CF1BA205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Тема проекта</a:t>
            </a:r>
            <a:br>
              <a:rPr sz="6000"/>
            </a:b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Автор</a:t>
            </a:r>
            <a:br>
              <a:rPr sz="6000"/>
            </a:b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Руководитель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Проблемный вопрос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Verdana"/>
              </a:rPr>
              <a:t>Цели</a:t>
            </a: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6000" spc="-1" strike="noStrike">
                <a:solidFill>
                  <a:srgbClr val="006666"/>
                </a:solidFill>
                <a:latin typeface="Verdana"/>
              </a:rPr>
              <a:t>и задачи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Ход исследования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Выводы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Используемые материалы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4:39:01Z</dcterms:created>
  <dc:creator>Helena</dc:creator>
  <dc:description/>
  <dc:language>en-US</dc:language>
  <cp:lastModifiedBy>Admin</cp:lastModifiedBy>
  <dcterms:modified xsi:type="dcterms:W3CDTF">2009-12-06T22:29:16Z</dcterms:modified>
  <cp:revision>62</cp:revision>
  <dc:subject/>
  <dc:title>Слайд 1</dc:title>
</cp:coreProperties>
</file>